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4A3-3716-4839-82E4-04B7B8C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E01-6D2B-4C1E-9A50-E13E0D0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576-CC7C-4ACF-86E5-898E69E0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614-50FE-4B45-A41C-DF283CC8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676-CE9F-418B-9E17-DFD0EDC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7E8-EB61-4ED9-AC14-7F15E64A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823-6A4D-47A7-AEE6-4EA574BF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E74-D484-4157-9323-FF62F791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B75-B7B3-40EF-9343-DF938D2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6F8-55C7-4FB7-8C22-7C2A327A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896-739F-4EAF-9982-F2166DCE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F04-17A2-48D6-834B-4D28428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72E5F-B6E3-48C3-BAD7-C2E2B78C5F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720720"/>
            <a:ext cx="684036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3600" y="1743120"/>
            <a:ext cx="701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ndo a cigarra em cantigas na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Passado todo o ve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chou-se em penúria ext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a tormentosa es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ão lhe restando miga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Que trincasse, a taga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Foi valer-se da formig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Que morava perto d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3964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3440" y="360360"/>
            <a:ext cx="577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80"/>
                </a:solidFill>
                <a:latin typeface="Arial"/>
              </a:rPr>
              <a:t>A CIGARRA E A FORM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7920" y="2208240"/>
            <a:ext cx="53928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gou-lhe que lhe emprestas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is tinha riqueza e bril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lgum grão com que manter-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té voltar o acesso es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720" y="4319640"/>
            <a:ext cx="5580000" cy="23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2160720"/>
            <a:ext cx="4208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“Amiga”, diz a cigar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- “Prometo, á fé d'anim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agar-vos antes d'ag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Os juros e o principa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27120" y="1800360"/>
            <a:ext cx="5673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formiga nunca empres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unca dá, por isso j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-”No verão em que lidava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Á pedinte ela per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Responde a outra: - “Eu can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oite e dia, a toda a hor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-”Oh! Bravo!”, torna a for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-”Cantavas? Pois dance agor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18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21:58Z</dcterms:created>
  <dc:creator/>
  <dc:description/>
  <dc:language>en-US</dc:language>
  <cp:lastModifiedBy/>
  <cp:revision>1</cp:revision>
  <dc:subject/>
  <dc:title/>
</cp:coreProperties>
</file>